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3BD-2FEB-4EF2-A57A-B6166ED6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F0D-FD96-4894-8A88-18D6B439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4952-349C-468B-9FEB-138580D9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304B-2BF5-43AD-B8A6-6405E112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703-56D3-4465-A97C-B151B0EA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ED42-4EE0-4224-B8FB-97388BC9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E43B-EAB8-472E-A8A4-63A1975D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61E9-2DA7-43BC-9038-C082D1F9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319F-FC1C-40FC-BE10-D2501314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FC6C-70C0-430F-826F-A54FB1E9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2684-A6AD-44B1-97CF-CEB70572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334-62C6-479F-AF34-5908CAF6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71AC-4FDE-4597-844B-B1149800AE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395280" y="189000"/>
            <a:ext cx="2808360" cy="5032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1.11.202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9573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Состав крови. Лабораторная работ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Сравнение крови человека и лягушки»»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692360" y="2706840"/>
            <a:ext cx="56671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Сегодня все узнаете о ней,</a:t>
            </a:r>
            <a:br>
              <a:rPr sz="28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Той, что для всех живых всего важней.</a:t>
            </a:r>
            <a:br>
              <a:rPr sz="28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Она бежит по замкнутой системе,</a:t>
            </a:r>
            <a:br>
              <a:rPr sz="28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Имеет плазму, клетки и пластинки,</a:t>
            </a:r>
            <a:br>
              <a:rPr sz="28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Эритроциты, лейкоциты, тромбоциты,</a:t>
            </a:r>
            <a:br>
              <a:rPr sz="28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Мелькают в ней как яркие картинки.</a:t>
            </a:r>
            <a:br>
              <a:rPr sz="28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Гемоглобин ее окрасил в красный цвет,</a:t>
            </a:r>
            <a:br>
              <a:rPr sz="28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О чем веду я речь?</a:t>
            </a:r>
            <a:br>
              <a:rPr sz="28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Кто даст мне правильный ответ?</a:t>
            </a:r>
            <a:br>
              <a:rPr sz="4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Кировская СОШ\Downloads\blood-drop-design_25030-68517.jpg"/>
          <p:cNvPicPr/>
          <p:nvPr/>
        </p:nvPicPr>
        <p:blipFill>
          <a:blip r:embed="rId1"/>
          <a:stretch/>
        </p:blipFill>
        <p:spPr>
          <a:xfrm>
            <a:off x="6703920" y="3500280"/>
            <a:ext cx="208908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тер «Кров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бенности строения клеток кр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ный ящ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бораторна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гра- карто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6458040" y="3933720"/>
            <a:ext cx="2333520" cy="1970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1356840"/>
            <a:ext cx="8400960" cy="428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овь – “ зеркало организма”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ookman Old Style"/>
              </a:rPr>
              <a:t>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Клод Бернар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Admin\Мои документы\Мои рисунки\Photo 034.gif"/>
          <p:cNvPicPr/>
          <p:nvPr/>
        </p:nvPicPr>
        <p:blipFill>
          <a:blip r:embed="rId1"/>
          <a:stretch/>
        </p:blipFill>
        <p:spPr>
          <a:xfrm>
            <a:off x="6588000" y="4581360"/>
            <a:ext cx="21430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79280" y="260280"/>
            <a:ext cx="8856720" cy="63374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Заголовок 1"/>
          <p:cNvGrpSpPr/>
          <p:nvPr/>
        </p:nvGrpSpPr>
        <p:grpSpPr>
          <a:xfrm>
            <a:off x="396720" y="103320"/>
            <a:ext cx="8345520" cy="1682640"/>
            <a:chOff x="396720" y="103320"/>
            <a:chExt cx="8345520" cy="1682640"/>
          </a:xfrm>
        </p:grpSpPr>
        <p:pic>
          <p:nvPicPr>
            <p:cNvPr id="5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6720" y="103320"/>
              <a:ext cx="834552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3"/>
            <p:cNvSpPr/>
            <p:nvPr/>
          </p:nvSpPr>
          <p:spPr>
            <a:xfrm>
              <a:off x="457200" y="142920"/>
              <a:ext cx="82296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Лабораторная работа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«Сравнение крови человека и лягушки»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 Box 6"/>
          <p:cNvSpPr/>
          <p:nvPr/>
        </p:nvSpPr>
        <p:spPr>
          <a:xfrm>
            <a:off x="1000080" y="2500200"/>
            <a:ext cx="17859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Ц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1222200" y="2133720"/>
            <a:ext cx="3129120" cy="4143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C:\Users\Кировская СОШ\Downloads\i.jfif"/>
          <p:cNvPicPr/>
          <p:nvPr/>
        </p:nvPicPr>
        <p:blipFill>
          <a:blip r:embed="rId3"/>
          <a:stretch/>
        </p:blipFill>
        <p:spPr>
          <a:xfrm>
            <a:off x="5297400" y="2149560"/>
            <a:ext cx="27496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Кировская СОШ\Downloads\i.jfif"/>
          <p:cNvPicPr/>
          <p:nvPr/>
        </p:nvPicPr>
        <p:blipFill>
          <a:blip r:embed="rId1"/>
          <a:stretch/>
        </p:blipFill>
        <p:spPr>
          <a:xfrm>
            <a:off x="295200" y="404640"/>
            <a:ext cx="852480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User\Desktop\2025-11-13_12-23-56.png"/>
          <p:cNvPicPr/>
          <p:nvPr/>
        </p:nvPicPr>
        <p:blipFill>
          <a:blip r:embed="rId1"/>
          <a:srcRect l="19219" t="26368" r="18192" b="17968"/>
          <a:stretch/>
        </p:blipFill>
        <p:spPr>
          <a:xfrm>
            <a:off x="0" y="7858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3" descr=""/>
          <p:cNvPicPr/>
          <p:nvPr/>
        </p:nvPicPr>
        <p:blipFill>
          <a:blip r:embed="rId1"/>
          <a:stretch/>
        </p:blipFill>
        <p:spPr>
          <a:xfrm>
            <a:off x="781200" y="2298600"/>
            <a:ext cx="722916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07:40:08Z</dcterms:created>
  <dc:creator>Admin</dc:creator>
  <dc:description/>
  <dc:language>en-US</dc:language>
  <cp:lastModifiedBy>Кировская СОШ</cp:lastModifiedBy>
  <dcterms:modified xsi:type="dcterms:W3CDTF">2025-11-13T10:37:34Z</dcterms:modified>
  <cp:revision>85</cp:revision>
  <dc:subject/>
  <dc:title>Внутренняя среда. Значение крови и ее состав. </dc:title>
</cp:coreProperties>
</file>